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F24-8E73-4804-9DEB-83AF0F78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099-3C0C-4397-A918-4A143076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342-09E1-443E-8BD2-48EDEF8E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224-1FFF-48A7-A46B-01F947B8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D8F-4A3C-4FC7-A628-23EBAE6E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D86-175F-42B7-969F-70A4427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9D0-FF92-4923-A612-BDDAD6BB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A6A-56F1-461C-9E0E-A98350EC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916-30B2-47D1-B239-6AE98CA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34E-E555-422A-B171-0B75531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571-BC65-4C26-BAA3-C52429D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8DC-1843-4BFE-8511-C5D4BF1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6C4-2422-41A5-AF94-F9A2E63E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9480" y="649080"/>
            <a:ext cx="8440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is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33200" y="2010960"/>
            <a:ext cx="7900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ly Measu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t Hours/M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6240" y="4403880"/>
            <a:ext cx="6237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d Low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16/2009</a:t>
            </a:r>
            <a:br>
              <a:rPr sz="2700"/>
            </a:b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http://tedlowe.fveaa.or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hm's La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904760"/>
            <a:ext cx="986004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 = I * 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: V = 1 volt battery, R = 1 ohm resis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uch current (I) will flow ?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27560" y="1541520"/>
            <a:ext cx="3201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Joule's La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0600" y="1453680"/>
            <a:ext cx="9879120" cy="58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= V * 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 by substitu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hm's law V=I*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= I^2 * 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Power is proportional to square of Curren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: V = 1 volt battery, R = 1 ohm resis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uch power will R consume ? 1 watt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27560" y="1541520"/>
            <a:ext cx="3201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Pow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600" y="1453680"/>
            <a:ext cx="9879120" cy="58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= V * 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need to measure two of the three variabl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, I and/or 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'll measure V and I as follow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2040" y="3191040"/>
            <a:ext cx="2844720" cy="284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0960" y="2043000"/>
            <a:ext cx="3876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really old w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2760" y="2114640"/>
            <a:ext cx="2541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er W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9960" y="277812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Voltage (2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3280" y="2039760"/>
            <a:ext cx="9563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est Way = Analog to Digital Converter (ADC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520" y="5413320"/>
            <a:ext cx="91342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erts an analog voltage to a digital value so a computer (microcontroller) can process i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16440" y="2760840"/>
            <a:ext cx="33922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EV's Voltag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960" y="1411200"/>
            <a:ext cx="950616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r EV pack voltages are quite high, eg, 160VD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C chips don't handle voltages that hi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st "divide to conquer"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oltage Divider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75040" y="3692520"/>
            <a:ext cx="37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EV's Voltage (2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92480" y="1492200"/>
            <a:ext cx="56786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, My S10 Pack (120 V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n = 160 V (final charg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1 = 200K ohm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2 = 6.5K oh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4200" y="1469880"/>
            <a:ext cx="3714840" cy="3505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6680" y="4373640"/>
            <a:ext cx="71294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of Vin will be across the "most resistive" resistor R1, with only 1/32 of it across R2 (1/32 = 6.5/20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out = 5 V (within ADC rang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EV's Voltage (3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2120" y="1450800"/>
            <a:ext cx="94806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DC will measure 5V = 4+1 = 000000001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ert back to whole measurement by multipying by 32 (shift 5 positions righ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0010100000 = 128+32 = 160 (bingo:-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K, we have the Voltage measurement in digital form, now lets move onto the Current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Current Via Shun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5080" y="1459080"/>
            <a:ext cx="959796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hunt is just a very accurate ultra-low value high-wattage resisto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of our EVs have shunts connected to ammeters to show our current dra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, a shunt that will handle 500A (max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1320" y="6597720"/>
            <a:ext cx="4141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ltec MKB-500-5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03480" y="4051440"/>
            <a:ext cx="35355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ltec MKB-500-50 Shu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320" y="1406160"/>
            <a:ext cx="97376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500-50 in the part number mea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00 A (max) flowing through it will generate 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0 mV voltage across i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E, .1mV for each amp flowing (1 milliVolt = .001 V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1360" y="4842000"/>
            <a:ext cx="96091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ercises for motivated students: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uch power will be dissipated by the shunt with 100A (nominal cruising speed) flow ? 500A (hard acceleration) ?  You may be surprised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Watt Hours/Mile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y should we measure it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we measure it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to do with measurements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asuring Current With AD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0600" y="1379520"/>
            <a:ext cx="96663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, cruising along drawing 100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unt would have 10mV across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y small number (opposite of high voltage problem befor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amplify before measuring with the AD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use a precision instrumentation amplifer IC like the TI OPA344 (using findchips.com, Digi-Key sells for $1.30 quantity 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amplify by 100 to give 5V for 500A (within the ADC rang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lculating Pow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4240" y="1395000"/>
            <a:ext cx="9596520" cy="56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ule's Law:  P = V * 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, My S10 with a freshly charged battery pack (125V) cruising at 100A draw = 12,500 wat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battery pack voltage (V) and amperage draw (I) will fluctulate while driving, so they must be frequently measured (sampled) and stored to be able to accurately calculate Watt-Hours/Mi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ease come back for Part 1.1 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Watt Hours/Mile 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's a measure of how much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used to do a certain amount of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, MPG = Miles per Gall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/M or MPG varies based on vehicle, driving techniques, accessory usage, terrain, speed, temperature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pay our electric bill based on how much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e have used.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pay based on how many KWH (Kilo-Watt-Hours) we us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Watt Hours/Mile ? (2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WH = 1000 Watt/Hour = 10 x 100 Watt light bulbs on for 1 hou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rrent ComED KWHs cost about 15 c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, My S10 EV takes about 20 KWH to charge and i can drive about 50 miles on a charge, so my APPROXIMATE CALCULATED AVERAGE WH/M is 20,000 / 50 = 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cycling is approx 25-50, Walking is approx. 128 and Prius is about 25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Measure WH/M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ice prior use of words like "about", "average", "approximately", "calculated"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asuring gives us real world FACTS.  It helps us to further quantify our understand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use FACTS in our own lives and in our EV outreach mission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Measure WH/M? (2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confidently answer questions like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my remaining ran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most efficient speed to drive 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it more efficient to drive 45 MPH in 3rd, 4th or 5th gear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uch does AC use affect my ran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es the cold temperatures affect my range 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Measure WH/M? (3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answerable ques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as the effect of my last vehicle upgrad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my driving habits effect my range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re something wrong with my EV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d i leave the emergency brake on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y other answers do you want ??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KNOWLEDGE ABOUT POW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curately Measuring WH/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ly the good stuff :-)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measure WH/M we need to measur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(watt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 (hours)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ance (mile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then "do the math" :-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lectric Power Relationshi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asuring Power - Dog-Ear this pag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hm's Law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       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 = I * 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olts) = Current (amps) * Resistance (oh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oule's Law:      P = V * 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(watts) = Voltage (volts) * Current (amp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